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989-DA18-49B5-9AD1-D5C70622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D76B-0F09-4BDF-AE53-1B4F851C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90F-076D-4A1A-9B3D-733E5C30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FBA-4878-4C57-88DF-A5158CFB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173-F053-45B2-A462-7C614D26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845F-7369-487B-8681-E1C2573B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F07-1EA7-4A94-8D79-D5144E58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600-A3BC-4DA4-AEEA-849E2B7E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94E-B060-44BB-8F72-418DD991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85B-488C-4A80-BB49-E923CDB4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D10-94EB-4E6E-AB41-AEC1619E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E51-C789-4188-B9A0-A9848DE7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23AB-03B1-4A46-9D95-7E31F50878A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ěco si přej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ěco si př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0988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zvi si někoho na ka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bo jen tak na poke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62280" y="1967040"/>
            <a:ext cx="541944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bo běž drbat na pavlač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3699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jte si salát – je dietní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yšíš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27200" y="1600200"/>
            <a:ext cx="4087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khle zní poho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75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k když dorazí kamarádi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ůžete vyrazit na výl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62160" y="1600200"/>
            <a:ext cx="301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Bacha na následky divokých jíz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12920" y="1600200"/>
            <a:ext cx="471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pší je jít na ryb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121200" y="1600200"/>
            <a:ext cx="2901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řeba den bez prá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04760" y="1600200"/>
            <a:ext cx="713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směv léčí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0" y="2352600"/>
            <a:ext cx="45720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 ta večeře pak chutná lí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28840" y="1600200"/>
            <a:ext cx="628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zapomeň se olíznout a pochválit kuchař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400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b, že to pošleš dál 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73520" y="1600200"/>
            <a:ext cx="339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íce bezpečí pro naše d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41560" y="1600200"/>
            <a:ext cx="3260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tatek jí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tatek p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795320"/>
            <a:ext cx="45720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lehlivého chla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0600" y="1600200"/>
            <a:ext cx="422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bo místo, kam se schová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93800" y="1600200"/>
            <a:ext cx="395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ísto, kde tě nikdo neuvid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8000" y="1600200"/>
            <a:ext cx="6586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dělej si čas na relax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15880" y="1716120"/>
            <a:ext cx="63122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22:32Z</dcterms:created>
  <dc:creator>Magda</dc:creator>
  <dc:description/>
  <dc:language>en-US</dc:language>
  <cp:lastModifiedBy>pichovah</cp:lastModifiedBy>
  <dcterms:modified xsi:type="dcterms:W3CDTF">2008-04-30T04:34:40Z</dcterms:modified>
  <cp:revision>3</cp:revision>
  <dc:subject/>
  <dc:title>Snímek 1</dc:title>
</cp:coreProperties>
</file>